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BE41-2246-4EDD-9D50-020AD210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E7CB-7769-40FB-9082-4BFE32D5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BC2-B628-4171-B747-31C6A65B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C177-A629-4BE4-B439-D10A9369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402B-259F-426A-9E87-C9BF5929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8379-6A03-4288-A3CD-C5D5889C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5194-553C-4042-BD8E-6DE5B8BA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B282-6EB9-48E6-9C13-08A988EE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06D5-4E36-4773-98B0-D459DF61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6B68-848D-4A49-BD62-1CCDD052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C29E-C0F8-468F-8112-B3C43514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805B-E61A-4780-875E-AFCEA112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5948-67A6-462A-AB2E-497B4A91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3B69-50B6-4160-8CC6-DC419542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3678-1BBB-42C2-AA69-83B1E123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76DE-8275-4CD3-A602-79694C4A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821C-DBC8-4506-AEB7-3E6D982E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550F-B958-4A33-9106-82FBDD09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3C62-967F-4192-A518-EF7E1DFE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F622-A994-4924-B726-16962A06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D5BC-7428-4FBE-B55D-73575D2D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C726-0581-4270-A62E-5EDA26D2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02B0-3362-4EAF-9E74-B68D0196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E84C-66CD-4F89-8695-1C80ED6D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8647-92D9-4785-888E-8957AB20B1F9}" type="slidenum">
              <a:rPr b="0" lang="pt-B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4DCC-128D-4147-97EE-A4097BFFC0A2}" type="slidenum">
              <a:rPr b="0" lang="pt-B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Ecstasy (Êxtase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Sintetizada e patenteada em 1914 por um laboratório alemã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Droga conhecida como MetilenodioxiMetAnfetamina (MDMA), desenvolvida para ser moderador de apeti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É um coquetel produzido a partir de anfetaminas e alucinógen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  <a:ea typeface="Arial"/>
              </a:rPr>
              <a:t>PCP ou fenciclidina (pó-de-anjo), alucinógeno mais adulterado. Era usado na veterinária, mas a frequência e a gravidade de seus efeitos tóxicos limitou-lhe o uso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  <a:ea typeface="Arial"/>
              </a:rPr>
              <a:t>O fornecimento de PCP é ilegal; ele pode ser fumado, inalado, ingerido ou injetado. Seus efeitos são: dissociação físico-psíquica e privação sensorial. Distorce as mensagens sensoriais enviadas ao sistema nervoso central, suspende a inibição e amortece a dor e eleva a pressão sanguíne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oses moderadas incapacitam a fala, provocam atitude rígida de robô, confunde e agita. Doses mais fortes podem causar catatonia ( tipo de esquizofrenia caracterizado por períodos de negativismo, excitação e atitudes ou atividades estereotipadas, ou seja, fixas, que não variam), coma, convulsões, depressão respiratória, insensibilidade cardiovascular, além de produzir amnésia enquanto dura o efeito ( de 2 a 48 horas)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O PCP é retido pelo organismo durante meses em células adiposas e pode ser liberado durante exercícios ou jejum, quando retorna em sua forma de agente químico, voltando a circular pelo corpo. Não é muito procurado por ser associado à “viagens ruins”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66ff33"/>
                </a:solidFill>
                <a:latin typeface="Times New Roman"/>
              </a:rPr>
              <a:t>Anticolinérgic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ff33"/>
                </a:solidFill>
                <a:latin typeface="Arial"/>
                <a:ea typeface="Arial"/>
              </a:rPr>
              <a:t>Incluem nesse grupo a planta trombeteira ou lírio e os medicamentos Artame, Akineton e Bentyl, drogas que são capazes de, em doses elevadas, produzir, além dos efeitos no nosso corpo, alterações em nossas funções psíquic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0" y="3049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ff33"/>
                </a:solidFill>
                <a:latin typeface="Arial"/>
                <a:ea typeface="Arial"/>
              </a:rPr>
              <a:t>Assim, as pupilas ficam muito dilatadas, a boca seca e o coração pode disparar, sintomas esses que são acompanhados de alucinações provocadas por alterações mentais do tipo percepção mental sem objeto (ver ratos, índios e estrelas quando esses objetos não existem, por exemplo). Os intestinos ficam paralisados (são usados medicamente como antidiarréicos) e a bexiga fica “preguiçosa” ou há retenção de urin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ff33"/>
                </a:solidFill>
                <a:latin typeface="Arial"/>
                <a:ea typeface="Arial"/>
              </a:rPr>
              <a:t>Os anticolinérgicos podem produzir, em doses elevadas, grande elevação da temperatura corporal que chega, às vezes até 40-41</a:t>
            </a:r>
            <a:r>
              <a:rPr b="0" lang="pt-BR" sz="28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pt-BR" sz="2800" spc="-1" strike="noStrike">
                <a:solidFill>
                  <a:srgbClr val="66ff33"/>
                </a:solidFill>
                <a:latin typeface="Arial"/>
                <a:ea typeface="Arial"/>
              </a:rPr>
              <a:t> C. Nestes casos, felizmente não muito comuns, a pessoa apresenta-se com a pele muito seca e quente, com vermelhidão, principalmente no rosto e pescoço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80769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ff33"/>
                </a:solidFill>
                <a:latin typeface="Arial"/>
                <a:ea typeface="Arial"/>
              </a:rPr>
              <a:t>O abuso de anticolinérgicos é relativamente comum no Brasil e tem sido responsável por internações de emergência. O Artame chega a ser a terceira droga mais usada pelos meninos de rua (após os inalantes e a maconha). Essas drogas não desenvolvem tolerância e não há descrição de síndrome de abstinênci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15328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voca dependência psíquica e pode levar à mor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É conhecida como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droga do amor –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posto afrodisíaco – provoca excitação quase incontrolável no usuári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flora a libi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nsação de bem-esta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umenta o desejo, mas prejudica o desempenho..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 homem diminui em 50% a capacidade de ereção e torna o orgasmo difíci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120" y="53352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A combinação da droga com a música produz um estado de transe similar ao experimentado em rituais tribais ou em cerimônias religios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Os efeitos são percebidos em torno de 30 min, já que leva algum tempo para a droga atingir o SN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A substância aumenta a concentração de serotonina (ligada a sensações amorosas) e de dopamina (anestésico natural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O </a:t>
            </a: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barato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 pode durar até 8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3808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Em primeiro momento, o usuário fica falante, feliz, seguro de si, receptivo ao contato social e com sensualidade em alta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00cc00"/>
                </a:solidFill>
                <a:uFillTx/>
                <a:latin typeface="Times New Roman"/>
              </a:rPr>
              <a:t>Não se anime</a:t>
            </a:r>
            <a:r>
              <a:rPr b="0" lang="pt-BR" sz="2800" spc="-1" strike="noStrike" u="sng">
                <a:solidFill>
                  <a:srgbClr val="00cc00"/>
                </a:solidFill>
                <a:uFillTx/>
                <a:latin typeface="Times New Roman"/>
              </a:rPr>
              <a:t>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Tais efeitos, porém, são passageiros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Durante a “viagem” são freqüentes acidentes como insuficiência hepática e renal, convulsões, hemorragia cerebral até morte súbit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O </a:t>
            </a:r>
            <a:r>
              <a:rPr b="0" i="1" lang="pt-BR" sz="2800" spc="-1" strike="noStrike">
                <a:solidFill>
                  <a:srgbClr val="ffff00"/>
                </a:solidFill>
                <a:latin typeface="Times New Roman"/>
              </a:rPr>
              <a:t>revertério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 deve-se ao aumento de temperatura (chega até 42º), seguido de sudorese e desequilíbrio hidroeletrolític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É conveniente relatar casos de dois usuários que morreram por excesso de consumo de água – um chegou a beber 14L de água: essa droga desequilibra o sistema antidiurético.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Muitas pessoas morrem por reações alérgic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Muitas mortes são causadas, principalmente, quando o ecstasy é usado em associação com outras drogas como a cocaína e o álcoo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Quando não mata, pode causar distúrbios como a síndrome do pânico, depressão, déficit de memória, delírios e alucinaçõ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Alucinógen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3520" y="22093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66ff33"/>
                </a:solidFill>
                <a:latin typeface="Times New Roman"/>
              </a:rPr>
              <a:t>LSD (dietilamida do ácido lisérgico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ff33"/>
                </a:solidFill>
                <a:latin typeface="Times New Roman"/>
              </a:rPr>
              <a:t>Mescalina (extraída do cacto peiot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ff33"/>
                </a:solidFill>
                <a:latin typeface="Times New Roman"/>
              </a:rPr>
              <a:t>Psilocibina (obtida de um cogumelo mexicano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ff33"/>
                </a:solidFill>
                <a:latin typeface="Times New Roman"/>
              </a:rPr>
              <a:t>Vinho de Jurema (preparado à base da planta brasileira </a:t>
            </a:r>
            <a:r>
              <a:rPr b="0" i="1" lang="pt-BR" sz="3200" spc="-1" strike="noStrike">
                <a:solidFill>
                  <a:srgbClr val="66ff33"/>
                </a:solidFill>
                <a:latin typeface="Times New Roman"/>
              </a:rPr>
              <a:t>Mimosa hostil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ff33"/>
                </a:solidFill>
                <a:latin typeface="Times New Roman"/>
              </a:rPr>
              <a:t>Caapri e chacrona (plantas alucinógenas utilizadas juntamente com bebida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30556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Muitas vezes, as alucinações consistem de pesadelos aterrorizantes, acompanhados de sentimentos de medo e de pânico, com impulsos violentos e suicid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Há dependência psíquica em graus variáve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A tolerância desenvolve rapidamente, embora desapareça rápido ao cessar o u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Não há desenvolvimento da síndrome da abstinênc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Pode ocorrer síntomas físicos pouco salientes como dilatação das pupilas, suor excessivo, taquicardia e náuseas seguidas de vômit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30592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buClr>
                <a:srgbClr val="66ff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 LSD provoca lesões nos cromossomos das células nervosas, nos glóbulos do sangue e nas células reprodutoras, pode causar danos não somente ao organismo de quem usa, mas também, aos filhos que venha a 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66ff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vido à perturbação psíquica promovida pelo LSD-25, há perda da habilidade  de perceber e avaliar situações comuns de perig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66ff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manas ou até meses após experiências com LSD, a pessoa repentinamente passa a ter todos os sintomas psíquicos daquela experiência anterior, isto é, sem ter tomado de novo a drog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38188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  <a:ea typeface="Arial"/>
              </a:rPr>
              <a:t>A psilocibina é um ingrediente ativo de numerosos cogumelos alucinógenos mexicano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  <a:ea typeface="Arial"/>
              </a:rPr>
              <a:t>Os efeitos psíquicos duram de 5 a 6 horas, dependendo da quantidade usada, geralmente de 20 a 60 mg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  <a:ea typeface="Arial"/>
              </a:rPr>
              <a:t>Os cogumelos causam náuseas, vômitos, perturbações neurovegetativas, pulso lento, perturbações vasomotoras e neuro-sensoriais e sensações de vertigem. Aparecem mal-estar, cansaço e sonolência, seguidos de estados de super-excitação, euforia, paz interior e necessidade de movimento. Terminado o ciclo, o usuário volta ao seu estado de consciência normal, guardando lembrança mais ou menos precisa de sua experiênci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1T09:16:15Z</dcterms:created>
  <dc:creator>Carlos &amp; Regina</dc:creator>
  <dc:description/>
  <dc:language>en-US</dc:language>
  <cp:lastModifiedBy>LEO</cp:lastModifiedBy>
  <dcterms:modified xsi:type="dcterms:W3CDTF">2000-09-07T12:47:55Z</dcterms:modified>
  <cp:revision>19</cp:revision>
  <dc:subject/>
  <dc:title>Inalantes, solventes e voláteis</dc:title>
</cp:coreProperties>
</file>